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0FE-FB58-4CFA-8643-3AD00F70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F1F-423A-40E8-9303-1AE000D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6DF-323A-4DAD-BCBF-1801E85C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1C9-29D9-47A3-9BC9-2FDE905B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FF4-F8A2-4437-8791-F5331281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47D-E0AD-4FDC-A6EF-DBADA5A2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4B9-9A4C-4930-AACB-6FE9351E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5D6-297A-408F-B448-6FF3E2F9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BD3-1E51-4214-91E4-232405E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547-A759-4E24-899E-9DD0EC7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6C8-504D-435E-A1EB-1A3E98D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4B6-4A2F-4725-B0EE-A2B70054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6797-9FB0-4E08-960E-DB2565B3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2120"/>
            <a:ext cx="807732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nformal Roman"/>
              </a:rPr>
              <a:t>Ancient Egyptian Science and Medicine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Emily Ehrl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Sara Bar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Gabbi Sto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2019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ffff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Question 1 in the Mumm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There were a lot different tools that the Ancient Egyptians used to fish out the internal org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hich one was used first to fish out pieces of the bra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2590920" cy="185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1743120" cy="1743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6:14Z</dcterms:created>
  <dc:creator>Default</dc:creator>
  <dc:description/>
  <dc:language>en-US</dc:language>
  <cp:lastModifiedBy>Default</cp:lastModifiedBy>
  <dcterms:modified xsi:type="dcterms:W3CDTF">2009-01-12T18:06:50Z</dcterms:modified>
  <cp:revision>2</cp:revision>
  <dc:subject/>
  <dc:title>Slide 1</dc:title>
</cp:coreProperties>
</file>